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439C6B-FB38-4BF7-BDB7-F5B8447A8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0FB301-49A0-4928-925B-1E286F47A0D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08120" indent="-34308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Toksin se vezuje za glikoprotein na površini ćelije domaćina i inhibira sintezu proteina inhibišući aktivnost 60S subjedinice na ribozomima, što dovodi do smrti ćelij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77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8AA048-7DF4-48D2-9844-B46B70EC8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nvazizivni su najčesći uzrocnici akutne dijareje. ETEC = enterotoksicna E.coli – najcesci bakterijski izazivac dijareje u zemljama u razvoju, kao i putnicke dijare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io cholerae = gram negativna fakultativno anaerobna bakterija, infekcije najcesce unosenjem kontaminirane vode,  ribe, skolj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36BAF7-AE95-44AB-B6DC-0A81FE957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64885C-86D2-404E-9D8F-8BA9C9A1C8F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3DB4FA-28B8-45AF-8A52-3ED49AB87EA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B80268-3EFE-438F-8625-C3564E7567A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815D6F-FA85-419E-BF8F-F656419B71E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061C6C-7588-4C6A-AA82-9000E3CF6CF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113AAE-8D50-4A96-BC6F-E97C73593CA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ED0364-A6B3-4B84-A964-3B90A404E58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21F7-A1AC-4D9B-914C-5AE393E21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2218-DA52-4AD2-8D47-B12A6FAD7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4318-B18E-45C2-867D-80A17D412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B984-DBD5-4FCF-BE5A-26D87F21A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68F3C-6C11-456F-B6D9-A1541A0D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A5BCD-BB7F-43A6-8952-1B39FB98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FFBDD-FB93-4F5A-B510-D71B2EBB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F60B4-BBC7-43BD-8C40-D33B09B6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EA952-2BC6-4679-8D6F-CD9DF94F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A42C1-8920-4C30-9232-FA036F7F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624DA-1C00-4F4C-8B07-AB1EFA82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3198-4642-42F7-A361-5124BCB9E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A25B8-64CF-4F4C-BB15-C698E705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FCE36-C2A0-49F2-A3F4-B0C7F246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71B68-71F1-461F-A9A3-6C675FE0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AA4B3-00FC-4AAD-96F6-C27D775D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9528C-DED9-46F5-B211-53119399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2BF5-3E5D-4EC8-962C-A161B8422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7567-A297-4BF0-B6A8-8E02A8A3A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6B6A-4441-44FD-B7BD-84658CE38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38A8-880B-41C4-9B1F-48EB9D2BD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E478-6D0C-422E-A622-B0AE41F22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38F2-02EF-4F79-9C4B-1B6F8A49C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32FF-6E9E-444C-BD8C-6789B4379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5AB0-D15C-42DA-944E-3CA9620D3B2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8B99-F017-435F-BC5F-45E62FA24463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E446-F687-43F6-A2EF-6800467C50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hyperlink" Target="http://upload.wikimedia.org/wikipedia/commons/4/49/Nifuroxazide.svg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НФЕКЦИЈЕ И ИНТОКСИКАЦИЈЕ ДИГЕСТИВНОГ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роф. Др Жељко 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атедра за инфектив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D63A-FF9C-4446-9927-E02D7F26D69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пидемиолошке карактеристик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360" y="1428840"/>
            <a:ext cx="7543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ома чест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Чешће у земљама са топлом климом (тропи и субтропи) него у земљама умереног климатског поја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натно чешће у срединама са ниским нивоом економске развијености и хигијенског стандар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овим срединама чешће код мале деце и у топло доба године (изузетак: Yersinia enterocolitica и Rotavir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звор инфекције оболеле особе и клицоноше, животиње и намирнице жив.порекла (јерсиниоза, камплобактериоза, салмонел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Фекоорални пут преноса (контакт, вода, храна, му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C1C2-8174-4DF9-9AB6-7528DAB4C14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Патогенеза цревних инфекција и интоксикациј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1. Степен инвазивности микроорганиз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Не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aphylococcus aureus, Bacilus cereus, Clostridium perfrigens, Vibrio parhaemolyticus, Vibrio cholerae, E.coli, virusi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вазилажење механизама имунске одбране (пре свега неспецифичн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теденције уласка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оштећења епителних ћелија (или минимално оштећење-скраћење микровила, без њиховог убијањ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луче ентеротоксине-поремећај транспорта електролита и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B669-5E1C-429C-B980-6D54AB104A6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5520" y="260280"/>
            <a:ext cx="860436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25520" y="2830680"/>
            <a:ext cx="8604360" cy="2901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80880" y="551988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NEINVAZIVN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ET E.Coli , V.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koji stimulišu lučenje adenil-ciklaza→ propustljivost crevnog epitela,sekrecija  vode i elektrolite u lumen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česte, obilne vodenaste stolice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835280" y="333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Patogeneza akutne bakt.dijareje uzrokovane NE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14240" y="500040"/>
            <a:ext cx="78962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higell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n-typhus salmonella, дијарогена Esherichia coli (EPEC, EIEC, EHEC, EAgEC, DAEC), Yersinia enterocolitica, Campylobacter jejuni/col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ирање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лобађање ендо- или/и егзотокс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окретање запаљенског одгов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падање епит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еки узрочници продиру кроз епител у субепителни простор (даље размножавањ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лимфоток и регионалне (мезентеријалне) лимфне чвор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крвоток (бактеријемија) са насељавањем других органа (јетра, мозак, плућа и ендокар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еп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198B-7B70-4FAB-9CFE-F1DFB4B907F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587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28600" y="5629320"/>
            <a:ext cx="823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INVAZIVNE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: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Salmonella, Shigella, Campilobacter,Yersinia, EP</a:t>
            </a:r>
            <a:r>
              <a:rPr b="1" lang="sr-Latn-C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E.coli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Prodiraju u  mukozne ćelije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razmnožavaju se. Kad se raspadnu, oslobađaju s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dotoksin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(lipopolisaharid sa pirogen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m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vojstvima, PG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), …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ostećenje epitela, </a:t>
            </a:r>
            <a:r>
              <a:rPr b="1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nekroza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 deskvamacija ćelije (feces sadrži epitel, Le, Er,slu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590480" y="-54000"/>
            <a:ext cx="59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Patogeneza akutne bakt.dijareje uzrokova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3016080" y="1335240"/>
            <a:ext cx="309564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4" name="Text Box 6"/>
          <p:cNvSpPr/>
          <p:nvPr/>
        </p:nvSpPr>
        <p:spPr>
          <a:xfrm>
            <a:off x="1066680" y="85680"/>
            <a:ext cx="66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KUTNA INFEKTIVNA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patogenez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95880" y="1523880"/>
            <a:ext cx="27352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VAZIV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lmonella, Shigella, Campilobacte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ersini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a, 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 E.co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rodiru u mukozne ćelije, razmnožavaju se.                   Kad se raspadnu, oslobađaju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dotoksi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štećenje epitela,  nekroze  i deskvamacij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227640" y="544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C C Swis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pitel, Er, Le, slu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1520" y="1989000"/>
            <a:ext cx="280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koji stimuli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š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sintez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adenil-ciklaz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ekrecija  vode i elektrolite u lumenu 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česte, obilne vodenaste stol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1763640" y="357336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7429680" y="4286160"/>
            <a:ext cx="0" cy="285840"/>
          </a:xfrm>
          <a:prstGeom prst="line">
            <a:avLst/>
          </a:prstGeom>
          <a:ln cap="sq"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6324480" y="1371600"/>
            <a:ext cx="2743200" cy="1625760"/>
          </a:xfrm>
          <a:prstGeom prst="rect">
            <a:avLst/>
          </a:prstGeom>
          <a:noFill/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1571760" y="4071960"/>
            <a:ext cx="0" cy="28728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38240" y="1400040"/>
            <a:ext cx="2735280" cy="1366920"/>
          </a:xfrm>
          <a:prstGeom prst="rect">
            <a:avLst/>
          </a:prstGeom>
          <a:solidFill>
            <a:srgbClr val="c00000"/>
          </a:solidFill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NEINVAZIVNI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T E.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li, V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66320" y="999720"/>
            <a:ext cx="7543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ми настанка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мањење апсорпцијске површине (скраћење микров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осмотске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секреција осмотски активних супстанци у цревни лумен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a, 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уношење сложених маркомолекула-угљених хидрата (лактоза) и белан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ламацијски пролив (простгландин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D1C2-39A0-457A-B5F4-B109A679A63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Клиничка сли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ективни синдром (није обавеза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оминантни клинички симптом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лив-две или више столица ненормалне конзистенције (воденасте или ретко кашас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толица одрасле особе са волуменом&gt; 200г/дан-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ста пасажа течн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једна или више крваво-слузав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Екстраинтестиналне манифестације (шигелоза, јерсиниоза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514-1C68-4E17-A0A9-23FA81AB2F1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микроорганизама на клинички слик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28800" y="1357200"/>
          <a:ext cx="7543800" cy="4937400"/>
        </p:xfrm>
        <a:graphic>
          <a:graphicData uri="http://schemas.openxmlformats.org/drawingml/2006/table">
            <a:tbl>
              <a:tblPr/>
              <a:tblGrid>
                <a:gridCol w="2576520"/>
                <a:gridCol w="4967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нвазив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тицај на клинички сли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Кратка инкубација-неколико с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нагло, без продр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није најчешће повиш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краткотрајна (24-72 часа), најчешће пролази без специфичног лечења (изузимајући колер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Дужа инкубације-бар 24-48 час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постепено-током 1 до 2 дана (малаксалост, безвољност, мијалгије, мучнина, губитак апети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увек присутна, најчешће преко 38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траје дуже, неопходно леч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Склоност ка компликацијама-бактеријемији и сеп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sp>
        <p:nvSpPr>
          <p:cNvPr id="1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17B5-F4CA-42EC-A088-0A4BD273CDB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Сегментност лезија дигестивног трак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065E-4319-43EB-B8BB-D394A94A736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42920" y="857160"/>
          <a:ext cx="8858160" cy="5643720"/>
        </p:xfrm>
        <a:graphic>
          <a:graphicData uri="http://schemas.openxmlformats.org/drawingml/2006/table">
            <a:tbl>
              <a:tblPr/>
              <a:tblGrid>
                <a:gridCol w="2477880"/>
                <a:gridCol w="2251080"/>
                <a:gridCol w="4129200"/>
              </a:tblGrid>
              <a:tr h="892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дигестивног тра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актеристике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1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ксим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ома волуминозне од почетка до кр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ен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јчешће безбој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се несварене хран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ст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уминозне</a:t>
                      </a:r>
                      <a:br>
                        <a:rPr sz="1800"/>
                      </a:b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шаст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е или браон бо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Јако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лева полови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 стол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почетку волум., касније оскуд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вих неколико столица фекулентне, касније фекалије оскудније а повећава се количина слузи, јавља се сукрвица, тенезми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2560" y="1557360"/>
            <a:ext cx="754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астроинтестиналне инфекције-на 2. месту по учесталости иза респираторних инфекција (у свету дневно оболи око 5 милиона љу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нижим” хигијенским стандардом-водећи узрок морбидитета и морталитета (нарочито деце млађе од 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вишим” хигијенским стандардом-чешће у дечијој популацији, међу сиромашнијим слојевима и имунокомпромитованим пацијентима (АИДС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3BF-9A45-4A79-84CF-6FFCD4A2C81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:\Users\Toshiba\Desktop\kako-zaustaviti-proliv.jpg"/>
          <p:cNvPicPr/>
          <p:nvPr/>
        </p:nvPicPr>
        <p:blipFill>
          <a:blip r:embed="rId4"/>
          <a:stretch/>
        </p:blipFill>
        <p:spPr>
          <a:xfrm>
            <a:off x="6791400" y="0"/>
            <a:ext cx="23526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и сегментности лезија на клиничку слик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85840" y="1428840"/>
          <a:ext cx="8572320" cy="42069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000160"/>
                <a:gridCol w="2500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ГИТ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ст микроорганиз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сте патогених 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удац, дуоденум, почетак јејуну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ylococcus au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еум, посебно терминални илеу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-пенетран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mpilobacter jeju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посебно лева половина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ig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terohaemorrha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diffici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9A91-F239-4760-B7EA-8500701AC78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Oпшти принципи дијагностик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023E-480D-49AB-BEBB-8099B5D9933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2960" y="121428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Хематолошке анализе (ККС, хематокри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иохемијске анализе (ЦРП, уреа, креатинин, АСТ, АЛТ, јоногр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4240" y="713880"/>
            <a:ext cx="78962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Бактериолошке претраге столице (копрокул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инвазивне инфекције (Salmonellae, Campilobacter jejun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онављати (2-3 пута)-сензитивне у 70% (многе бакт. цревне инфекције, чак и до 50%, остају етиолошки недијагностикова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 започињања антибиотск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 неке претраге столице неопходна консултација са микробиологом-специфични услови култивисања (вибриони, Е. Coli, C.jejuni et col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Вирусолошке претраг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алаз вирусног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EDA9-4C44-488C-B185-4669A5A3982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56800" y="785880"/>
            <a:ext cx="775332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бактеријско тровање храном-преглед повраћеног садржаја и остатака инкриминисане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Паразитолошки преглед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`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рострука претрага густе столице на цисте протозоа и јаја хелми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Размаз столице, бојење и фиксација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.histolytica, Criptosporid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великог узорка столице (en masse)-стронгилоидоза (мали број лаборатор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седимента дуоденалног садржаја-ламблијаза, стронгилоидоза, анкилостомијаза, јаја jeтриног мети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D4AE-3A68-4C64-AB6F-C1406BFE01A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ерологија-амебијаза (тежа цревна или екстраинтестинална-IHA, IF, ELISA), јерсиниоза, кампилобактериоза, клостридијална инфекција (токсин А и Б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ндоскопија (клострдијална инфек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тивни РТГ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хо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FF8A-293C-4549-B1B8-3195CA718C6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Терапија цревних инфекција и интоксикациј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560" y="1628280"/>
            <a:ext cx="75438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ета, ограничени унос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сложени макромолекули (месо, млеко, пресно поврће и во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сти угљени хидрати (барени пиринач, шаргарепа, кромпир, плазма кекс, бели хлеб, бела кифла, кока-кола, сладак чај, слане грисине, посне слане супе, банане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азриво, са смиривањем дијареалног синдрома уводити јогурт, беланце јајета, барену пилетину, постан млади сир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9FA4-B47F-42E5-9377-2F959CE3C08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7" descr="C:\Users\Toshiba\Desktop\преузимање.jpg"/>
          <p:cNvPicPr/>
          <p:nvPr/>
        </p:nvPicPr>
        <p:blipFill>
          <a:blip r:embed="rId5"/>
          <a:stretch/>
        </p:blipFill>
        <p:spPr>
          <a:xfrm>
            <a:off x="5796000" y="981000"/>
            <a:ext cx="2819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Цревна течност у односу на крвну плазму садржи сличну конц Na али 4-5 пута већу конц К и двоструко већу конц бикарбо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ежак дијареални синдом: губитак воде, Na, Cl,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бикарбонат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ацидоза) и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ероралн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слађен чај, слана посна супа, пиринчана посоље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редства за пероралну рехидратацију (Nelit, Rehidromix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”Dacca” раствор: NaCl+NaHCO3+KCl 5:4:1 (kol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5AED-4B30-431F-B71D-741CCA24E5E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венск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олошки раствор (0,9% Na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укосалин (0,9% NaCl+2,5% Gl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Рингеров раст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8,3% NaHCO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Интез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Довољ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ерење артеријског крвног притиска, пулса, диуре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E6F5-132F-427E-9915-BA054DEF4C8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ontent Placeholder 5" descr="Шта лекова спречава путници Пролив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00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928440" y="1571400"/>
            <a:ext cx="771516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3. Медикаментоз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еме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у повраћеном садржају нема остатака несварене хране-алиментарна интокс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алгетике и спазмолитике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давати никада 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примарно хируршком обоље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хируршкој компликацији примарно инфективне болести органа за ва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акутне инфекције ГИТ-а не изазивају тако јаке болов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дијароици (лоперамид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икада код инфективног пролив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0DD8-A565-4CBE-81B5-A54AFE59419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071360" y="928800"/>
            <a:ext cx="75438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микроб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иљев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е смањење симптома и скраћење трајањ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и престанак излучивања узрочника (ерад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венција 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це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ла деца (млађа од 3 месе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тарији пацијенти (&gt;6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мунокомпромитован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вазив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9FE7-C00D-4FA0-B81F-1283D22AB3A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ца узраста испод 5 година годишње оболе 5-6 пута од атака инфективног пролива (неразвијени краје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ваке године дијареја је узрок смрти око 760.000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ареја је узрок смрти око 1,7 милиона особа годиш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авни узрок потхрањености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1442-94B9-423B-B958-88C696E6F55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7DAE-0465-4F1D-B83A-D380CC1D29A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2057400" y="914400"/>
            <a:ext cx="3581280" cy="2286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14840" y="317160"/>
            <a:ext cx="70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ffff66"/>
                </a:solidFill>
                <a:latin typeface="Tahoma"/>
              </a:rPr>
              <a:t>Антимикробни лекови који се користе у лечењу инфективних дијареја</a:t>
            </a:r>
            <a:r>
              <a:rPr b="0" i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77800" y="893880"/>
          <a:ext cx="8286840" cy="5324400"/>
        </p:xfrm>
        <a:graphic>
          <a:graphicData uri="http://schemas.openxmlformats.org/drawingml/2006/table">
            <a:tbl>
              <a:tblPr/>
              <a:tblGrid>
                <a:gridCol w="2589120"/>
                <a:gridCol w="2586240"/>
                <a:gridCol w="3111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лтернатив</a:t>
                      </a: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и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леко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игел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абл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sitetraciklin 2,5 g у току 12 са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лмонелозн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табл. или Amoksicilin 3x500mg/дан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фекције изазване EIE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2x2 табл. или Gentamicin 1mg/kgtt/8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Јерсинијски ентеро</a:t>
                      </a: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lkin 2x100mg, Gentamicin 1mg/kgtt/8 сати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ил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klin 300mg једнократ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 или Ciprofloksacin 1g једнократно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. или Hloramfenik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мпилобактер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ј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к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ritromicin 4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5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а или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zitromicin 1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3 дана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Gentamicin 1mg/kgtt/8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ати  и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сеудомембранозни к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ankomicin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абл.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25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etronid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abl.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6E0F-6AF8-4CEA-8263-A705F76DDA8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868320" y="1164600"/>
            <a:ext cx="80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Антипараз</a:t>
            </a:r>
            <a:r>
              <a:rPr b="0" i="1" lang="sr-Latn-CS" sz="1800" spc="-1" strike="noStrike">
                <a:solidFill>
                  <a:srgbClr val="ffff66"/>
                </a:solidFill>
                <a:latin typeface="Tahoma"/>
              </a:rPr>
              <a:t>ит</a:t>
            </a: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ни лекови који се користе у лечењу инфективних дијаре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6000" y="2343240"/>
          <a:ext cx="7791480" cy="2425680"/>
        </p:xfrm>
        <a:graphic>
          <a:graphicData uri="http://schemas.openxmlformats.org/drawingml/2006/table">
            <a:tbl>
              <a:tblPr/>
              <a:tblGrid>
                <a:gridCol w="3451320"/>
                <a:gridCol w="434016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мебијаза (амебни колити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75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+ Paromomicin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10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амбли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ја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алантидија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ронгилоид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iabendaz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Цревни антисептици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42560" y="2205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ифуроксазид (Ентерофури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риват 5-нитрофу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ам деловања није у потпуности разјашњ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нтимикробнe и aнтипаразитарнe oсобине нифуроксазидa, вероватнo потичу oд нитрo-групe </a:t>
            </a:r>
            <a:r>
              <a:rPr b="0" lang="mk-MK" sz="2400" spc="-1" strike="noStrike">
                <a:solidFill>
                  <a:srgbClr val="ffffff"/>
                </a:solidFill>
                <a:latin typeface="Calibri"/>
                <a:ea typeface="Calibri"/>
              </a:rPr>
              <a:t>(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ојa je jako eлектрон-реак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ерапија  нифураксозид-ом  се нe препоручуje дуже oд 7 да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C9B0-478C-456C-AF4A-A675EAE6C22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5"/>
          <a:stretch/>
        </p:blipFill>
        <p:spPr>
          <a:xfrm>
            <a:off x="5715000" y="71280"/>
            <a:ext cx="3840120" cy="2408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File:Nifuroxazide.sv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857160"/>
            <a:ext cx="297972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Rectangle 8"/>
          <p:cNvSpPr/>
          <p:nvPr/>
        </p:nvSpPr>
        <p:spPr>
          <a:xfrm>
            <a:off x="6659640" y="907920"/>
            <a:ext cx="2484360" cy="10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66880" y="68040"/>
            <a:ext cx="561672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Антимикробни спектар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Rounded Rectangle 1"/>
          <p:cNvSpPr/>
          <p:nvPr/>
        </p:nvSpPr>
        <p:spPr>
          <a:xfrm>
            <a:off x="3124080" y="4038480"/>
            <a:ext cx="5181840" cy="1828800"/>
          </a:xfrm>
          <a:prstGeom prst="roundRect">
            <a:avLst>
              <a:gd name="adj" fmla="val 16667"/>
            </a:avLst>
          </a:prstGeom>
          <a:solidFill>
            <a:srgbClr val="fbfbfb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am </a:t>
            </a:r>
            <a:r>
              <a:rPr b="1" lang="sr-R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позитивне бактерије</a:t>
            </a:r>
            <a:r>
              <a:rPr b="1" lang="mk-MK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reptococcus pyoge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aphylococcus pyog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ounded Rectangle 2"/>
          <p:cNvSpPr/>
          <p:nvPr/>
        </p:nvSpPr>
        <p:spPr>
          <a:xfrm>
            <a:off x="762120" y="1219320"/>
            <a:ext cx="5410080" cy="2361960"/>
          </a:xfrm>
          <a:prstGeom prst="roundRect">
            <a:avLst>
              <a:gd name="adj" fmla="val 16667"/>
            </a:avLst>
          </a:prstGeom>
          <a:solidFill>
            <a:srgbClr val="757575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m</a:t>
            </a:r>
            <a:r>
              <a:rPr b="1" lang="mk-MK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sr-R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негативне бактер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scherichia 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almon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hig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9972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о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икроорганизми који дати у одређеној дози, обезбеђују здравствену бенефит домаћину (СЗ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е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есварљиве супстанце (углавном олигосахариди) које стимулишу раст и активност пробиотика (углавном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a), те са њима имају синергистички учинак. Најпознатији је инулин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биотичке врсте компетитивно инхибирају стварање токсичних супстанција и раст мање пожељних врста, такмичећи се за простор и хра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4B9-56B5-486C-9461-6403B02A1F9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7" descr="C:\Users\Toshiba\Desktop\probiotici-e-prebiotici.jpg"/>
          <p:cNvPicPr/>
          <p:nvPr/>
        </p:nvPicPr>
        <p:blipFill>
          <a:blip r:embed="rId3"/>
          <a:stretch/>
        </p:blipFill>
        <p:spPr>
          <a:xfrm>
            <a:off x="1547640" y="0"/>
            <a:ext cx="6048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56800" y="333000"/>
            <a:ext cx="77533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садашња истраживања указују да пробиотици не могу заменити уништену нормалну цревну флору, међутим као привремене колоније могу обављати исте функције као природна флора, дајући јој времена да се опора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чке врсте се потом убрзано замењују нормалном цревном фл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коришћени пробиотици су различите врсте рода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um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дебелог црева, изоловано 30 врста) и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actobacillu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црева и вагине, изоловано 56 врста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ifidum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re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infant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longu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acid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case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стале врсте: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coccus, </a:t>
            </a:r>
            <a:r>
              <a:rPr b="0" i="1" lang="en-US" sz="1400" spc="-1" strike="noStrike">
                <a:solidFill>
                  <a:srgbClr val="ffff00"/>
                </a:solidFill>
                <a:latin typeface="Tahoma"/>
              </a:rPr>
              <a:t>Saccharomyc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(probiotički kvasac),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Enterococcus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Јогурт-бактеријe, aли без пробиотичког ефект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bulgaric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Streptococcus therm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0409-4CF2-415C-82F9-BCFEDA4D50A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ћина пробиотских препарата садржи 1.000.000.000 бактерија на грам или милилит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ично је препоручена доза: једна капсула дне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ного је важнији квалитет бактерија у препарату, јер оне морају да преживе деловање желудачне и жучних киселина, као и алкални садржај у дуоденуму, како би стигле до црева и биле делотвор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ке је потребно узимати најмање 5 пута недељно како би се одржао њихов утицај на цревну фл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F984-5F7E-4BBB-95F1-2B7DC4C7669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Calibri"/>
              </a:rPr>
              <a:t>НЕИНВАЗИВНЕ ИНФЕКЦИЈЕ ДИГЕСТИВНОГ ТРАКТ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ОВАЊЕ ХРАНОМ (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Intoxicatio alimentaris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ношење хране или воде, контаминиране патогеним микроорганизмима или њиховим токс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ом сликом доминирају гастроинтестинални симптоми и знаци (повраћање, мучнина, 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ђе, симптоми и знаци од стране гит благи или одсутни а доминирају симптоми и знаци од стране других органских система (ЦНС-ботулиз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и број оболелих у свету-6.000.000 до 80.000.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ци: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Staphylococcus aureus, Bacilus cereus, 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5BAE-41EC-4C66-8241-F14FEFC3131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тафилококно тровање хра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гзотоксини Staph. Aureu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7 серолошких типов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афилококног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теини ма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лекулск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порни на дејство желудачног и цревних со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носе повишену температур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стају и пос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30mi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00</a:t>
            </a:r>
            <a:r>
              <a:rPr b="0" lang="sr-Latn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ичка обрада намирница не неутралише његову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21EF-6B85-40B0-A6FA-9172FF79E8A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4140360" y="429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л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деална подлога за рамножавање St.aureusa и продукцију егзотоксина-млеко, јаја, месо (млевено) тј. подлоге погате уг.хидратима и проте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тровања-сладолед, колачи, млевено мес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-клицоноше или пацијенти са носилаштвом узрочника у носу или на ко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ично се ради о контаминацији већ припремљене хране (мада ни термичка обрада намирница не спречава појаву тровања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9E02-32C2-4113-A9D7-8650FAAC19D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2" descr="C:\Users\Toshiba\Desktop\373560.jpg"/>
          <p:cNvPicPr/>
          <p:nvPr/>
        </p:nvPicPr>
        <p:blipFill>
          <a:blip r:embed="rId7"/>
          <a:stretch/>
        </p:blipFill>
        <p:spPr>
          <a:xfrm>
            <a:off x="5916600" y="0"/>
            <a:ext cx="32274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320" y="500040"/>
            <a:ext cx="75438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379A-650C-46AD-9A04-CAB71ACA0DC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1098720"/>
          <a:ext cx="6527880" cy="5211720"/>
        </p:xfrm>
        <a:graphic>
          <a:graphicData uri="http://schemas.openxmlformats.org/drawingml/2006/table">
            <a:tbl>
              <a:tblPr/>
              <a:tblGrid>
                <a:gridCol w="1733760"/>
                <a:gridCol w="1684080"/>
                <a:gridCol w="1478160"/>
                <a:gridCol w="1631880"/>
              </a:tblGrid>
              <a:tr h="55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РОЂ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СТЕЧ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хуморал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елулар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Киселост жел.садрж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е ефекторске ћел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Антит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Б-l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-лимфо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отили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 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и ефекторски протеин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родукција слу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иток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анкреас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Запаљенс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реак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Билијар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45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фл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sp>
        <p:nvSpPr>
          <p:cNvPr id="12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ханизам дејства стаф. ентеротокси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родук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IL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еристал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-a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ктивација центра за повраћање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стимулацијом симпатичких влакана n.vagus-а у горњим партијама дигестивног тракта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ки типови ентротоксина  блокирају ресорпцију електролита и воде из цревног лумена, узрокујући пролив (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F5F-A7D8-4B30-AD04-A88F25DFCBD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71280" y="260280"/>
            <a:ext cx="75438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1-12 сати (најчешће до 6 часо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гли поче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ређе пролив, повишена телесна температура се по правилу не јав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абораторијски  налази (најчешће нормални, знаци дехидрат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икробиолошке претраг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етекција ентеротоксина у остацима инкриминисане хране и повраћеном садржају (ретко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55AA-7B82-416E-AAD0-15F08C74ADD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имена антибиотика није индикова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70F9-FE59-4DEA-9DF5-EDD525537EC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acilus cer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еробни, спорогени, Г+ бац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Земљиште, природне вод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, сирове намир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дукује еметички и дијареални тип 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Еметички тип тровања (кувани пирина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раткотрајна инкубација (1-6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Упорно повраћање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2 до 10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Дијареални тип тровања (поврће, сосеви, пудин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ужа инкубација (6-14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Обилне, водене столице, праћене грчевима у трбуху (ретк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16-48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E585-6CE8-43DA-8651-C63091EE55E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5" descr="Ð¡ÑÐ¾Ð´Ð½Ð° ÑÐ»Ð¸ÐºÐ°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9192-E43B-4578-8B76-28A404ADDC8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1" name="Picture 3" descr="C:\Users\Toshiba\Desktop\Clostridium-perfringens-cells.jpg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1341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115640" y="620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лигатни анаероб (може издржати дејство кисеоника и до 72 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минално поставњене споре-отпорне на кување у кључалој води у трајању од 10  мин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сте великом брзином на 15-50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а тровања или епидемије (кантине у фабрикама и војсци, масовна окупља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серотип А, ређе C и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Јесен или зимски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рана која је охлађена без наглог замрза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66320" y="333360"/>
            <a:ext cx="754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нтеротокс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телне ћелије танк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Ћелијска смр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интрацелуларних молекула у лумен црева (Na, Cl, протеини, 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8-24 ч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одени проливи (2-4 столице/дне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рчевити боло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тко повраћање и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C3D2-C01C-4697-BBC1-91FB278660C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brio parahaemolyth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алофили (висока концентарција соли)-конзумирање морских  животињ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нутар исте врсте могу да продукују различите ентеротоксине, цитотоксине и хемолизине-разноликост клиничке сл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и: остриге, сардине, крабе, лигње, поврће контаминирано сланом морском водом, мор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: најчешће термички необрађена (али и обрађена)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лавни проблем: недовољно брзо постигнуто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35B3-5EF5-4FEE-BD8D-25911AA8E95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ксплозивни, водени проливи→предшокно стање (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лови у трбуху, мучнина, повраћање, главобоља (код већ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хтавица и повишена температура (ређ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зентерични синдром са крваво-слузавим  столицама и лезијом слузнице дебелог црева веома 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а анк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и 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ентеротоксина из повраћеног садржаја, столице, остатака инкримисане хране (не ради с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5E78-6065-42FA-872B-06A564D1EA7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Users\Toshiba\Desktop\cholera2.jpg"/>
          <p:cNvPicPr/>
          <p:nvPr/>
        </p:nvPicPr>
        <p:blipFill>
          <a:blip r:embed="rId1"/>
          <a:stretch/>
        </p:blipFill>
        <p:spPr>
          <a:xfrm>
            <a:off x="0" y="0"/>
            <a:ext cx="3348000" cy="2133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755280" y="260280"/>
            <a:ext cx="78548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представља најтежу секреторну дијареју, која се у најтежим облицима може испољити дехидратацијом, хиповолемијским шоком и смртним исх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Vibrio cholerae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-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кривљени бацил, покре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спороге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, једнополарна флаг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становници површинских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ста патогено за љу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FBC2-C6B6-48C8-9710-1369C176F03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2" descr="C:\Users\Toshiba\Desktop\bakt_1.jpg"/>
          <p:cNvPicPr/>
          <p:nvPr/>
        </p:nvPicPr>
        <p:blipFill>
          <a:blip r:embed="rId5"/>
          <a:stretch/>
        </p:blipFill>
        <p:spPr>
          <a:xfrm>
            <a:off x="6054840" y="0"/>
            <a:ext cx="308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матски-О и флагеларни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г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носу на соматски антиген: серогрупа О1 и О139 (једини узрочници коле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бриони других серогрупа-узрокују колери слична обољења (проливи блажег интезитета, спорадичног каракте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ibrio cholerae O1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aw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Inab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Hikojima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соматском О антиген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биолошким особинама-два биотипа: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asica, El-Tor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(блажа клиничка сл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алофилне бактерије-високе концентрације соли (полуслане воде ушћа великих р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3BA1-282F-4ADE-9EE5-5C3D92522FC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фокално лимфно ткиво (крајници,Пајерове плоче, мезентеријалне лимф.жл.,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апендик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дифузна седишта-неорганизовани делови (ламина проприа и епите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738B-048B-4C08-95CF-CEC5D7DAD59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786040" y="600084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скључиво хума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(ређе), епидемијски и пан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-оболела особа или клицоноша (жучна кес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миирана вода, храна,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актори који фаворизују инфекцију (смањење желудачног ацидитета): гастритис, употреба антацида, блокатори H2 рецептора, ресекција желу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 неендемична подручја колера се најчешће импортује као путнички проли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F709-83BB-49D9-A4DC-9AA08BC54FA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онизација танког црева и продукција ентеротоксина (везивањем помоћу п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токсин: 2А и 5Б подједи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-подјединица→везивање токсина за ганглиозид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M1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површини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 компонента: А1 и А2 подједи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1 подјединица-продире у ћелију и активира аденилат-циклаз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 резултује продукцијом цикличног аденозин-монофосфата (цАМП)→блокада апсорпције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стимулација секреције хлорида и воде у лумен цре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E2E7-5910-4B0D-9635-20A2D254712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а секреција изотоничне течности у лумен црева, која превазилази ресорптивни капацитет дебел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е количине течности из васкуларног корита и екстрацелуларног простора, као и бикарбоната→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хиповолемијски шок и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уги, термолабилни токсин-повећана пермеабилност цревне слузниц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zonula occludens toxin)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оштећујући “тесне везе” епител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до 3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сто асимптоматска или као баналн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9CD2-6FAE-4C5B-9B24-D3E8E2C1D77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ол у трбуху, гађење, 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чне, фекулентне, смрдљив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јективно: лако дехидратисан пацијент, адинамичан, очуваног крвног прити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течности: 2-5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: т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и гастроенте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е учестале, воденасте, обилне, пражњење безболно и експлози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а-безбојна, личи на пиринчану воду, базне реакције, отужног мириса ( на ри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DD1A-B9E0-4FDD-8718-9889A20E671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течности: 8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јективно: изразито адинамичан, хипотензиван, олигур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Алгид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40-50 столица дневно (дневни губитак 15-20 литара воде тј. преко 10% телесне теж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грчеви у мишићима, анурија, хипо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ешка дехидратација, хиповолемијски шок, анурија,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Facies hipocratica”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силарна температура до 3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ктална до 4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тих “афоничан” глас-”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ox choleric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ахикардија, мукли тонови, убрзан, филиформан пулс, немерљив крвни притисак, увучен “чунаст” трб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70E6-3843-4FED-BD47-1D4BDAF2DE4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и подац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боратор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ематолошк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ct↗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e↗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иохемијск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K↘, Na ↘, Cl ↘,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т.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доз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ренална азотем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би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ке сакупити што пре, у раној фази болести (пре примене антибиот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а, повраћени садржај, брис ректума, 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99DA-9475-44E5-A591-AB6CFDA11F2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анспортне подлог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о није могуће брз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o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опремити материјал до лаборатор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гаћена алкална пептон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5-6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убкултивација на селективн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TCBS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крвни аг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8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ипичне коло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ст аглутин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ливален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O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антисеру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еглед столице микроскопом у тамном пољу (покрети вибри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рологија-од 7-10 дана (ограничени значај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CBCE-2B54-4E7C-A2A9-81EC0D415CF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Зелен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parahaemolyticusa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жут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cholerae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(TCBS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подлога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114800"/>
          </a:xfrm>
          <a:prstGeom prst="rect">
            <a:avLst/>
          </a:prstGeom>
          <a:ln w="0">
            <a:noFill/>
          </a:ln>
        </p:spPr>
      </p:pic>
      <p:sp>
        <p:nvSpPr>
          <p:cNvPr id="3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r os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кши облици дехидратациј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4g NaCl+4g NaHCO3+1g KCl+20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лукозе+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1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од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Интравенским путем-2 литра за 30 мин. код одрас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Најчешће се корис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Ringer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 лактат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HCO3  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-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лактат 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DACCA” : NaCl+NaHCO3+KCl  5:4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секундарна)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doxycyclin 300 m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bactrim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ли еритромицин (деца)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iprofloksacin 1g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415A-6093-465B-A957-81FF6E75EF5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езбеђење здраве, пијаће в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илна диспозиција људских излу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акцинација (путовање у ризична подруч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Соматски антигени два најважнија сер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Ефикасност: 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ање заштите: 2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620A-A937-4701-970A-E01C0C38798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360" y="356760"/>
            <a:ext cx="75438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окал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ајерове плоче се налазе у танком цреву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ерминални илеум), величине су 1-3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састоје  се од Б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Т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i="1" lang="sr-RS" sz="2400" spc="-1" strike="noStrike">
                <a:solidFill>
                  <a:srgbClr val="ffffff"/>
                </a:solidFill>
                <a:latin typeface="Calibri"/>
                <a:ea typeface="Calibri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стоцита, полиморфонуклеара и плазм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 површини П.плоча налазе се М ћелије, одговорне за презентацију 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Дифуз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епителни леук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цити, леукоцити у ламини пропр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уче интерлеукине 1алфа, 1 бета, 4, 5, 6; гама 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Д8 цитотоксични-супресори (85%), ЦД4 помагачки (1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442-6FD1-49B4-BA4C-7224693BE5D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ећи део нормалне флоре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ређеним условима изазивају 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словно патогене бактер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ј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“o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ртунисти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G-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 бац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јединачно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парови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правилн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у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имбрије или пи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ога у адхезиј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 стварају капсул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ки сојеви 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M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капсул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C131-76A2-437F-96BE-88F9FFC1928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71280" y="333360"/>
            <a:ext cx="7543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патоге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P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Ентеротоксична</a:t>
            </a:r>
            <a:r>
              <a:rPr b="0" lang="sr-Latn-RS" sz="2400" spc="-1" strike="noStrike">
                <a:solidFill>
                  <a:srgbClr val="ff0000"/>
                </a:solidFill>
                <a:latin typeface="Calibri"/>
              </a:rPr>
              <a:t> (ET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инваз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I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хеморагич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грегат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Ag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дхерент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(EAd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к путничког пролива у развијеним земљ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одојчад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е дец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емљама у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ут пренос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→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фекал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-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ктни пу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ца у болница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минирана хр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1224-479E-4031-989F-C0E945710E8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TEC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 специфичне рецептор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ревној слузни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CFA I, II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егз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(e</a:t>
            </a: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нтер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л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ст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Te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молабилни токси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LT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казује сличнос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рмак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имун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а токсино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vibria choler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активира га температура о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60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DACE-13AE-4564-B791-878D62BBD7C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4140360" y="1916280"/>
            <a:ext cx="485640" cy="576000"/>
          </a:xfrm>
          <a:prstGeom prst="downArrow">
            <a:avLst>
              <a:gd name="adj1" fmla="val 50000"/>
              <a:gd name="adj2" fmla="val 2965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066320" y="764640"/>
            <a:ext cx="754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T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 састоји од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-субјединице</a:t>
            </a:r>
            <a:r>
              <a:rPr b="0" lang="en-U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indi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ецифичн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ецепторе ентероц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англиози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лаз токсина у ће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</a:rPr>
              <a:t>-субјединица</a:t>
            </a:r>
            <a:r>
              <a:rPr b="0" lang="sr-Latn-CS" sz="2400" spc="-1" strike="noStrike">
                <a:solidFill>
                  <a:srgbClr val="66ccff"/>
                </a:solidFill>
                <a:latin typeface="Calibri"/>
              </a:rPr>
              <a:t> 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activat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тива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ази у цитоплазму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имулација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денила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кл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већ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центр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c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злучивање воде и електрол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цревни лумен →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9EAE-3072-4292-8709-6CCB522317E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971280" y="475920"/>
            <a:ext cx="75438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абост,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фузан пролив, зелено-жуте боје, мирише на труле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ма крви и гно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про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ЛТ-метод културе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СТ-оглед in v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фактора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емаглутин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ерологија (реакција аглутин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A3C8-6B56-4799-9CBC-040728964B9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УСНИ ПРОЛИ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30-40% акутних инфективних пролива узроковано виру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акутни гастроентер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о се излучују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огу се идентификовати путем електронске микроско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није специфична за поједине узрочн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747C-7862-4838-A851-21C6D40CFB2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Рота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ажнији узрочници тешких инфективних пролива код дец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eoviridae</a:t>
            </a: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ЕМ облик точка (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ota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ча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дам група (према протеинској структури); А, Б и Ц-патогене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10 серот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вуда у свету (неразвијене и развијене земљ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 пролива код 35-40% хоспитализован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е оболи 140 милиона деце, умре више стотина хиљ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 обољевају деца од 6 месеци до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A329-B521-4BA8-9BCB-F3A9A20A042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и број инфекција протиче 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мерени климатски појас-чешће з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 у педијатријским болница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олицом се излучује велика количина виру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Вирус јако отпоран у спољашњој среди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Мала инфективна доза (10 вири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лучивање вируса столицом-непосредно пре појаве првих симптома до 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6A11-02C1-4A6D-B47F-9FFEB602DC8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042560" y="259920"/>
            <a:ext cx="75438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епителних ћелија цревних рес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апсорптивне способности з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четкастог покрова-губитак активности хидрол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ећана пропустљивост цревног зида за макромолекуле-алергијске реакције на 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1-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пролив (водена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хидратација,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компромитовани-пролив дуготрајан и теж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фицит лактазе- може трајати 14-21 д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6A4D-71D0-40EE-B490-9CF9010ED5F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дефицијентне особе-хронич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лектронска микроскопија-карактеристичан изглед то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ролошка детекција А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 (одојчад не прекидају доје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A772-E187-4202-B0D1-526C8DC7B7B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-214200"/>
            <a:ext cx="75438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8C0-CE66-46E0-A855-B5A9A0CF0AB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71720" y="500040"/>
          <a:ext cx="7543800" cy="593424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akteri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n-typhus salmon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ијарогена </a:t>
                      </a: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sherichia coli (EPEC, ETEC, EIEC, EHEC, EAgEC, DA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mpylobacter jejuni/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eromonas hydroph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lesiomonas shigello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wardsi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lostridium diffic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</a:t>
                      </a: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coccus aureus-e</a:t>
                      </a: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теротоксиг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perfrig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Аден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чно узрокују пролив код мал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око 10% инфективних пролива деце млађе од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начајан број асимптоматских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ком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кт, не храна-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оноштво до 14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лидан постинфекцијски имун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2E1C-09C8-4D00-9473-9F185A026C4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ична ротавирусном гастроентеритису-блажа и дуже 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3-10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лив ( и до 14 дана): водена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ишена температура, каша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хидратација (не као код ротавиру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ултивација вируса (н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E7F6-9FA4-4FF4-9E8A-FDFC3C106C8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лци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фекције присутн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но детињ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главном асимптоматс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је-вртићи, старачки домови, шк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езависно од годишњег д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Мала дец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благи гастроентеритис, фебрилност, респ. симптоми (ређ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Одрасл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онзумација шкољки или пијење контаминиране воде-грчеви, повраћање, воденаст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2780-E5F4-44AD-B4A2-DDE2D1F2E14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Норвалк и њему сични 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арија деца,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ло контагиозан вирус, инфективна доза&lt;100 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ује проксимални део танког црева, скраћује рес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апсорпција лактозе и м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3CB7-AC4D-49C0-B475-43B7EAD648F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1-2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чеви, воденасте столице, 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ишена температура, мијалгије, главобоља (1/2 оболели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5BEB-0819-47DE-83C3-E09264267FF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066320" y="1052280"/>
            <a:ext cx="75438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Астр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ала деца и стар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лажи, воденасти проливи (2-3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ести код ХИВ+ и пацијената са трансплантираним орга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-ИЕМ, детекција вирусног Аг, серологија, PC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ронавируси, парвовирус, ентеровируси....?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723E-CD03-43CB-9A0C-391B160AC2F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УТНИЧК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утни дијареални синдром који се јавља у једне трећине путника током прве недеље путовања или непосредно по повратку к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ји утичу на појав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аросна доб (&lt;30 год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Хипо- или ахлорхидр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Имуносупрес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Ранија појава пролива приликом пут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шћи при путовањима у тропске крајев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3A7-9985-4D46-8E48-28E8551D087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токсич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Шигеле, салмонеле, кампилобактер, вибрио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ambli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ntamoeba histolytic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Strongiloides sterc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ryptosporidium, Rotavirusi, Enteroviru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соко ризична подручја (20-50%): Јужна Америка, Африка, Средњи исток, 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средњег ризика (10-20%): јужна Европа, Медитер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ниског ризика (&lt;8%): северна Европа, Канада, САД, Аустралија, Нови Зела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15CE-03E5-4C9B-BE37-B045A651B0A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нзумирање локалне хране (термички необрађено поврће, месо и морска храна), употреба леда, непастеризованог млека и неољуштеног во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чиње најчешће 2-3 дана по повратку са пут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(2-3 столице/дневно), некада и преко 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е су обилне и водене, праћене експлозивним пражњ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тходи краткотрајни бол у трбуху (гр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може и да варира (зависно од узрочн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F3C5-0760-4EFB-BE0F-6EEA128DD73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рт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краткотрајна, 1-3 дана-бактрим, ципрофлоксац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бегавање сумњиве воде, хране и напит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ре личне хигиј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вентивна примена пробиотика, цревних антисептика и других антимикробних ле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акцинација (евентуал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E540-84BE-4B95-BADA-4792328FBBB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28800" y="142920"/>
          <a:ext cx="7543800" cy="6264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нтеров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walk-вир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i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en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отоз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yptospori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spora bel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гљив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ndida sp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парази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mblia inestina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chinela spiralis, Аscaris lumbricoides, Strongiloides stercoralis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E7C0-E63A-49D7-A098-3104BC77ADE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24E0-0DF6-4179-B86D-818207F7CAA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03400" y="5011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66"/>
                </a:solidFill>
                <a:latin typeface="Tahoma"/>
              </a:rPr>
              <a:t>Диференцијална дијагноза дијареалног синдрома</a:t>
            </a: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1720" y="1428840"/>
          <a:ext cx="7931160" cy="4664160"/>
        </p:xfrm>
        <a:graphic>
          <a:graphicData uri="http://schemas.openxmlformats.org/drawingml/2006/table">
            <a:tbl>
              <a:tblPr/>
              <a:tblGrid>
                <a:gridCol w="7931160"/>
              </a:tblGrid>
              <a:tr h="468936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ктеријске, вирусне, паразитарне инфекције цревне слуз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Упална жаришта у близини црева (апендицитис, аднекситис, пијелонефритис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Пролив као општи симптом у току генерализованих инфек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Друге болести дигестивних орг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. Пролив због хемијског деловања (лаксанси, лекови, отр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. Пролив код општих метаболичких поремећаја (уремија, дијабетес, хипертиреоза, Адисонова болест, пелагра и сл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1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klinika</cp:lastModifiedBy>
  <dcterms:modified xsi:type="dcterms:W3CDTF">2023-10-30T17:55:30Z</dcterms:modified>
  <cp:revision>496</cp:revision>
  <dc:subject/>
  <dc:title>Slide 1</dc:title>
</cp:coreProperties>
</file>